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A67-2849-42F5-BFEC-CE883306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F28-D1D7-48E5-AF30-42261764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4AD-9B24-4FCC-91F1-E2AB8C6E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639-35B5-4A98-AFDE-04364FEE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1193-F19D-47A8-9F18-D54EA9C0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ED3A-8FDD-46FB-99EA-1D125C2C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461D-4A93-44BF-B65A-74FD8B71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31EE-AA0E-4B68-A401-41B1F7CC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0432-6473-457D-A987-E655DD8A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4DCB-FA55-42D9-B3E7-42BB6DDC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03C2-A7F9-4CEC-92BC-E5C0ADA2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B77-F8D8-42D9-914F-1CC1A2E5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A679-B58F-40A8-B2FA-6BF52581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A698-789C-4764-A5B4-A4837B93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AA4E-0EB1-41D5-9B2F-C6CDC19F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F051-B236-48DF-AF2E-0A221E28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3853-AE92-4D63-A1AA-8B333E1F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DDB-3951-4D09-A322-DF1395E3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3DE-B961-42ED-84C0-D9D5A4FF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A27-22D0-4672-8526-BA299639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FC5-FF00-4742-8DF1-5143B19A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F73-CA8F-4FBC-A5DE-D0CA7BF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42B-59EE-40DA-9C55-867A73A1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7F2-7CD8-46E7-BDF2-3E7934E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34E7-7DED-4477-836E-CD34AFB2D7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E877-E26C-4B51-A1B7-884D201055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39: The Stormy Sixties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Missile Cris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ial photographs of Cuba showed that Soviets were installing nuclear missiles in Cu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weapons to blackmail US into backing down in Berlin &amp; elsewhe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FK orders naval quarantine of Cuba &amp; demanded immediate removal of threatening weapon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ld Khrushchev that any attack on US from Cuba would be seen as attack by USSR &amp; would trigger retaliation against USS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Missile Cris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s waited while USSR ships approached patrol line established by US nav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ba prepared to launch nuclear weapons if attack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t. 28, 1962: Khrushchev agrees to pull missiles out of Cub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agrees to end quarantine in Cub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also agrees to remove missiles in Turke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SR humiliated, launches program of military expa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06_01474139"/>
          <p:cNvPicPr/>
          <p:nvPr/>
        </p:nvPicPr>
        <p:blipFill>
          <a:blip r:embed="rId1"/>
          <a:stretch/>
        </p:blipFill>
        <p:spPr>
          <a:xfrm>
            <a:off x="0" y="0"/>
            <a:ext cx="5486400" cy="354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s_c03_10231624"/>
          <p:cNvPicPr/>
          <p:nvPr/>
        </p:nvPicPr>
        <p:blipFill>
          <a:blip r:embed="rId2"/>
          <a:stretch/>
        </p:blipFill>
        <p:spPr>
          <a:xfrm>
            <a:off x="0" y="3656160"/>
            <a:ext cx="4867200" cy="320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s_c07_10220122"/>
          <p:cNvPicPr/>
          <p:nvPr/>
        </p:nvPicPr>
        <p:blipFill>
          <a:blip r:embed="rId3"/>
          <a:stretch/>
        </p:blipFill>
        <p:spPr>
          <a:xfrm>
            <a:off x="4876920" y="3573360"/>
            <a:ext cx="4267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1962_cuban_missile"/>
          <p:cNvPicPr/>
          <p:nvPr/>
        </p:nvPicPr>
        <p:blipFill>
          <a:blip r:embed="rId1"/>
          <a:stretch/>
        </p:blipFill>
        <p:spPr>
          <a:xfrm>
            <a:off x="304920" y="533520"/>
            <a:ext cx="868356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campaigned w/ strong appeal to black vo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eedom Ri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ed sit-in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ted to end segregation on interstate b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ten ended violent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marshals sent to protect Freedom Ri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ANd9GcRuaDeSkD136Cl4EF-WwKHgiGu7zYWKaJxWCJNqQnH7TqdQgRTE"/>
          <p:cNvPicPr/>
          <p:nvPr/>
        </p:nvPicPr>
        <p:blipFill>
          <a:blip r:embed="rId1"/>
          <a:stretch/>
        </p:blipFill>
        <p:spPr>
          <a:xfrm>
            <a:off x="6705720" y="5342040"/>
            <a:ext cx="24382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gregation- JFK sent troops to University of Mississippi to integrat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K led protest in Birmingham, AL (most segregated big city in U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aceful civil rights marchers met violence (water ho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gives public speech, commits himself to finding a 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Screen%20shot%202010-03-17%20at%209"/>
          <p:cNvPicPr/>
          <p:nvPr/>
        </p:nvPicPr>
        <p:blipFill>
          <a:blip r:embed="rId1"/>
          <a:stretch/>
        </p:blipFill>
        <p:spPr>
          <a:xfrm>
            <a:off x="7238880" y="558792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tin Luther King, Jr. 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“March on Washington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support of JFK proposed legisl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K gives “I have a dream” speech from the Lincoln mem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gar E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url"/>
          <p:cNvPicPr/>
          <p:nvPr/>
        </p:nvPicPr>
        <p:blipFill>
          <a:blip r:embed="rId1"/>
          <a:stretch/>
        </p:blipFill>
        <p:spPr>
          <a:xfrm>
            <a:off x="5181480" y="3852720"/>
            <a:ext cx="3962520" cy="300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king"/>
          <p:cNvPicPr/>
          <p:nvPr/>
        </p:nvPicPr>
        <p:blipFill>
          <a:blip r:embed="rId2"/>
          <a:stretch/>
        </p:blipFill>
        <p:spPr>
          <a:xfrm>
            <a:off x="3460680" y="4419720"/>
            <a:ext cx="173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Assassi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ember 22, 196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shot by concealed rifleman &amp; died w/in seconds in Dallas, Tex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ged assassin: Lee Harvey Oswa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t in front of TV cameras by Jack Ru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ts &amp; theories about what really happen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nned nation griev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JFK-and-Jackie-in-Dallas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347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LHO9"/>
          <p:cNvPicPr/>
          <p:nvPr/>
        </p:nvPicPr>
        <p:blipFill>
          <a:blip r:embed="rId2"/>
          <a:stretch/>
        </p:blipFill>
        <p:spPr>
          <a:xfrm>
            <a:off x="2286000" y="3833640"/>
            <a:ext cx="4419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0880" y="76320"/>
          <a:ext cx="8534520" cy="6781680"/>
        </p:xfrm>
        <a:graphic>
          <a:graphicData uri="http://schemas.openxmlformats.org/drawingml/2006/table">
            <a:tbl>
              <a:tblPr/>
              <a:tblGrid>
                <a:gridCol w="4267440"/>
                <a:gridCol w="4267080"/>
              </a:tblGrid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was elected to Congress in 18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was elected to Congress in 19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elected President in 18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elected President in 19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 wife lost a child while living in the White Hous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 wife lost a child while living in the White Hous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directly concerned with Civil Righ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directly concerned with Civil Righ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had a secretary named Kennedy who told him not to go to the theater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had a secretary named Lincoln who told him not to go to Dallas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was shot in the back of the head in the presence of his w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was shot in the back of the head in the presence of his w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shot in the Ford Theatr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shot in a Lincoln, made by For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shot on a Frid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shot on a Frid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assassin, John Wilkes Booth, was known by three names, comprised of fifteen lette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assassin, Lee Harvey Oswald, was known by three names, comprised of fifteen lette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th shot Lincoln in a theater and fled to a warehouse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wald shot Kennedy from a warehouse and fled to a theat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th was killed before being brought to tr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wald was killed before being brought to tr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re were theories that Booth was part of a greater conspirac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re were theories that Oswald was part of a greater conspirac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's successor was Andrew Johnson, born in 18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's successor was Lyndon Johnson, born in 19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New Fronti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est president ever el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 &amp; bright men surrounded Kenne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Front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Peace Cor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not what your country can do for you, but what you can do for your country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jackie_kennedy"/>
          <p:cNvPicPr/>
          <p:nvPr/>
        </p:nvPicPr>
        <p:blipFill>
          <a:blip r:embed="rId1"/>
          <a:stretch/>
        </p:blipFill>
        <p:spPr>
          <a:xfrm>
            <a:off x="4267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assination Afterma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P Johnson is sworn in as president promp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is acclaimed for the spirit he kindled rather than the concrete goals he achie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captivated Amer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lbj_and_jfk"/>
          <p:cNvPicPr/>
          <p:nvPr/>
        </p:nvPicPr>
        <p:blipFill>
          <a:blip r:embed="rId1"/>
          <a:stretch/>
        </p:blipFill>
        <p:spPr>
          <a:xfrm>
            <a:off x="5105520" y="3992400"/>
            <a:ext cx="40384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yndon B. Johns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ws to honor JFK by passing Civil Rights Bill that he fought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ivil Rights Act of 1964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nned racial discrimination in private facilities open to 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ed gov. power to end segre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Equal Employment Opportunity Commiss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 enforced gender equ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on Povert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Society- sweeping set of economic &amp; welfare measures aimed at transforming American way of li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New Fronti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l assistance for elde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federal aid to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 resistance in Con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tax-cut b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 resistance from big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billion dollar project to land America on the m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ST-C22-1-62"/>
          <p:cNvPicPr/>
          <p:nvPr/>
        </p:nvPicPr>
        <p:blipFill>
          <a:blip r:embed="rId1"/>
          <a:stretch/>
        </p:blipFill>
        <p:spPr>
          <a:xfrm>
            <a:off x="7077240" y="2438280"/>
            <a:ext cx="2066760" cy="211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220px-JohnFK"/>
          <p:cNvPicPr/>
          <p:nvPr/>
        </p:nvPicPr>
        <p:blipFill>
          <a:blip r:embed="rId2"/>
          <a:stretch/>
        </p:blipFill>
        <p:spPr>
          <a:xfrm>
            <a:off x="5181480" y="5105520"/>
            <a:ext cx="1433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 on the Mo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hy, some say, the moon?... And they may well ask, why climb the highest mountain? Why, thirty-five years ago, fly the Atlantic? Why does Rice play Texas?”- John F. Kenne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neil-armstrong-on-the-moon1"/>
          <p:cNvPicPr/>
          <p:nvPr/>
        </p:nvPicPr>
        <p:blipFill>
          <a:blip r:embed="rId1"/>
          <a:stretch/>
        </p:blipFill>
        <p:spPr>
          <a:xfrm>
            <a:off x="4114800" y="3645000"/>
            <a:ext cx="32623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 on the Mo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small step for man; one giant leap for mankin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220px-Neil_Armstrong_pose"/>
          <p:cNvPicPr/>
          <p:nvPr/>
        </p:nvPicPr>
        <p:blipFill>
          <a:blip r:embed="rId1"/>
          <a:stretch/>
        </p:blipFill>
        <p:spPr>
          <a:xfrm>
            <a:off x="1066680" y="2971800"/>
            <a:ext cx="3054600" cy="3886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1101681206_400"/>
          <p:cNvPicPr/>
          <p:nvPr/>
        </p:nvPicPr>
        <p:blipFill>
          <a:blip r:embed="rId2"/>
          <a:stretch/>
        </p:blipFill>
        <p:spPr>
          <a:xfrm>
            <a:off x="5105520" y="3124080"/>
            <a:ext cx="28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s in Eur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viets construct Berlin Wall, August 196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to prevent population drain from East to West Germa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bolized division of Europ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turns attention to Western Euro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 Expansion Act- authorizes tariff cuts up to 50 percent to promote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Market: free-trade area later called European Un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berlin-wall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ible Respon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for US foreign policy arose from worldwide decolonization after WW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Congo received independence from Belgium, 19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sends peacekeeping fo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provided money to Laos to prevent communism, fa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xible Response=developing an array of military options that could be matched w/ the gravity of crisis at h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Confrontatio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lliance for Progress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Marshall Plan for Latin America) Help LA close gap between rich &amp; poor, quieting communist agg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ay of Pigs Invas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me to topple Castro from power by invading Cuba w/ anticommunist exi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ked by trained &amp; armed Americ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ril 17, 1961- 1200 exiles landed @ Cuba’s Bay of Pi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match for Castro’s fo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met by popular uprising in Cu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iled invasion- exiles sent to prison &amp; eventually ransom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FK took full responsibility for failu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300px-BayofPigs"/>
          <p:cNvPicPr/>
          <p:nvPr/>
        </p:nvPicPr>
        <p:blipFill>
          <a:blip r:embed="rId1"/>
          <a:stretch/>
        </p:blipFill>
        <p:spPr>
          <a:xfrm>
            <a:off x="5486400" y="5516640"/>
            <a:ext cx="3657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0:30:12Z</dcterms:created>
  <dc:creator>emily.johnson</dc:creator>
  <dc:description/>
  <dc:language>en-US</dc:language>
  <cp:lastModifiedBy>Emily Johnson</cp:lastModifiedBy>
  <dcterms:modified xsi:type="dcterms:W3CDTF">2013-04-14T16:39:54Z</dcterms:modified>
  <cp:revision>12</cp:revision>
  <dc:subject/>
  <dc:title>Chapter 39: The Stormy Sixties </dc:title>
</cp:coreProperties>
</file>